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8AF-EC14-400E-AF57-1FD80BDF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6CE0-76C5-4CD3-99D6-4C1B2205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your objectives, why they need to know it , and how they will use the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objective:  Students will be able to illustrate clouds that signal unsettled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objective:  Students will understand that some clouds signal the approach of poor weather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  Have groups (2-3) write a behavioral objective for 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provide a list of verbs for teachers to use after slide number 13, which summarizes objectives and ai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for future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hand out Lesson Planning  Institute-Quick Notes to begin the process of developing less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724F-C431-43E5-936A-E81A3F67B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 standards (curriculum) ready for teachers- either online for them to have access or a hard copy of the specific standards they are to use.  The book has on pages 204-205 an appendix on National Standards from Professional Organizations.  This can be typed and hand It to them, CCLS email address can be added to this 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DEE4-A55F-4655-9779-98E793413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s of effective planning and effective teaching.  Today we are going to look at domain 1 and to some extend Domai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69AA-2730-44A3-A49E-BE56C970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207-48CC-427D-9A48-7E4CB58D4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loud to gro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7C2E-A935-40A2-8BD2-3678F9B48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re going to be provided with statements for them to classify as either big ideas or skills.  This activity will develop an understanding for what a big idea is.  TIME FOR BREAK AFTER THIS SLID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what is a skill from a big ide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94B-BAD7-4F3C-8DFD-0EAC97004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ill check websites for them to further understand the concept of Big Ideas and essential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C6F-30A9-48E4-9A51-63F2BD454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BF3-27A1-4DF9-BED9-1D2B9173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07F-62C8-4323-B79A-BDB43D1A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599-3446-460C-AA92-42515E5B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10D-CE8E-4C14-ADEC-68CF3F10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8B4-E1C9-4B53-8F7D-BD0EAFE6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38C-28BD-4BF7-AF96-4881D8C0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E607-107F-4E6B-8A49-F564BA1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D182-A13B-49E6-9288-0A9EB640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B680-584E-4111-B51B-353020C1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E6A2-AAE6-4F70-BB81-59E6894D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4047-75DF-438D-92F0-8B564439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54B-572A-4B05-BFA5-0DF75580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BFE1-DC18-4A1E-9414-0126771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292C-FF12-440F-8DDA-F205414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71CA-5C48-48F8-A5F5-4C65A3A7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6698-C6DD-49AF-976E-556563CD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E2A1-2C4D-4F8B-8F47-227FE880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FAB-91ED-417C-8CDE-124EBE6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1F5-9F6A-4357-BE9D-4513D6C1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1ED-BB3D-44DD-A422-9C35F098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0FB-F436-4782-AFDE-840CD3B7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1CA-8D7F-42C8-9FA0-4024219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386-7384-4B04-8F89-57CB148F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2F5-27DE-436D-A4B8-7F75400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645B-F5E5-4EBA-96B5-78AAD21CE64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1058-4785-4587-9906-3BB88BD245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2b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2b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5E47-CBAD-49CB-B427-F393FC64B39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3B91-1797-4C27-8A98-0A8E8F1B56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labellanoire.files.wordpress.com/2008/08/questionmark.jpg&amp;imgrefurl=http://labellanoire.wordpress.com/2008/08/&amp;usg=__fShgmZAb7UGgIEDVcgCP1hbFqxs=&amp;h=310&amp;w=311&amp;sz=7&amp;hl=en&amp;start=9&amp;itbs=1&amp;tbnid=mUSXxbl4DGa6nM:&amp;tbnh=117&amp;tbnw=117&amp;prev=/images?q=question+mark+face&amp;hl=en&amp;sa=N&amp;gbv=2&amp;ndsp=20&amp;tbs=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1782bf"/>
                </a:solidFill>
                <a:latin typeface="Times New Roman"/>
              </a:rPr>
              <a:t>Framework for Teaching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solidFill>
            <a:srgbClr val="dfbe0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Lesson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grow.hope.edu/img/Prepare%20The%20Way%20-%20Final.JPG"/>
          <p:cNvPicPr/>
          <p:nvPr/>
        </p:nvPicPr>
        <p:blipFill>
          <a:blip r:embed="rId1"/>
          <a:stretch/>
        </p:blipFill>
        <p:spPr>
          <a:xfrm>
            <a:off x="0" y="0"/>
            <a:ext cx="2992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OBJECTIVES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description of </a:t>
            </a:r>
            <a:r>
              <a:rPr b="1" lang="en-US" sz="2400" spc="-1" strike="noStrike">
                <a:solidFill>
                  <a:srgbClr val="1782bf"/>
                </a:solidFill>
                <a:latin typeface="Century Gothic"/>
              </a:rPr>
              <a:t>what the student will know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1" lang="en-US" sz="2400" spc="-1" strike="noStrike">
                <a:solidFill>
                  <a:srgbClr val="1782bf"/>
                </a:solidFill>
                <a:latin typeface="Century Gothic"/>
              </a:rPr>
              <a:t>be able to do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t the end of the lesson </a:t>
            </a:r>
            <a:r>
              <a:rPr b="1" lang="en-US" sz="1100" spc="-1" strike="noStrike">
                <a:solidFill>
                  <a:srgbClr val="000000"/>
                </a:solidFill>
                <a:latin typeface="Lucida Sans"/>
              </a:rPr>
              <a:t>(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Lucida Sans"/>
              </a:rPr>
              <a:t>Where Great Teaching Begins: Planning for student thinking and learning </a:t>
            </a:r>
            <a:r>
              <a:rPr b="1" lang="en-US" sz="1100" spc="-1" strike="noStrike">
                <a:solidFill>
                  <a:srgbClr val="000000"/>
                </a:solidFill>
                <a:latin typeface="Lucida Sans"/>
              </a:rPr>
              <a:t>by Anne R. Reev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vides alignment with district and state goals (Uses CC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Use behavioral verbs to describe the expected outcomes (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Avoid Wording Such As: appreciate, enjoy, understand, lov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7E04-552C-4F60-9CED-041E7BCC18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66680" y="4876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bjectives answer two of the four key questions of pla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What</a:t>
            </a:r>
            <a:r>
              <a:rPr b="0" lang="en-US" sz="1800" spc="-1" strike="noStrike">
                <a:solidFill>
                  <a:srgbClr val="1782bf"/>
                </a:solidFill>
                <a:latin typeface="Century Gothic"/>
              </a:rPr>
              <a:t> will students lear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8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To what degree</a:t>
            </a:r>
            <a:r>
              <a:rPr b="0" lang="en-US" sz="1800" spc="-1" strike="noStrike">
                <a:solidFill>
                  <a:srgbClr val="1782bf"/>
                </a:solidFill>
                <a:latin typeface="Century Gothic"/>
              </a:rPr>
              <a:t> will they learn? To what depth and bread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will they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cquir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this lear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will they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emonstrat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this lear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t3.gstatic.com/images?q=tbn:mUSXxbl4DGa6nM:http://labellanoire.files.wordpress.com/2008/08/questionmar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437000"/>
            <a:ext cx="2087640" cy="2016360"/>
          </a:xfrm>
          <a:prstGeom prst="rect">
            <a:avLst/>
          </a:prstGeom>
          <a:ln w="0">
            <a:noFill/>
          </a:ln>
        </p:spPr>
      </p:pic>
      <p:sp>
        <p:nvSpPr>
          <p:cNvPr id="151" name="Cloud Callout 2"/>
          <p:cNvSpPr/>
          <p:nvPr/>
        </p:nvSpPr>
        <p:spPr>
          <a:xfrm>
            <a:off x="0" y="0"/>
            <a:ext cx="4319640" cy="3573360"/>
          </a:xfrm>
          <a:prstGeom prst="cloudCallout">
            <a:avLst>
              <a:gd name="adj1" fmla="val 27055"/>
              <a:gd name="adj2" fmla="val 70370"/>
            </a:avLst>
          </a:prstGeom>
          <a:solidFill>
            <a:srgbClr val="b7d3fb"/>
          </a:solidFill>
          <a:ln w="25560">
            <a:solidFill>
              <a:srgbClr val="6fa8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Learn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are statements of </a:t>
            </a:r>
            <a:r>
              <a:rPr b="0" lang="en-GB" sz="1800" spc="-1" strike="noStrike" u="sng">
                <a:solidFill>
                  <a:srgbClr val="0d0d0d"/>
                </a:solidFill>
                <a:uFillTx/>
                <a:latin typeface="Arial"/>
              </a:rPr>
              <a:t>what you are setting out to tea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although expressed as if the students were going to lear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loud Callout 3"/>
          <p:cNvSpPr/>
          <p:nvPr/>
        </p:nvSpPr>
        <p:spPr>
          <a:xfrm>
            <a:off x="5292720" y="549360"/>
            <a:ext cx="3851280" cy="2735280"/>
          </a:xfrm>
          <a:prstGeom prst="cloudCallout">
            <a:avLst>
              <a:gd name="adj1" fmla="val -37847"/>
              <a:gd name="adj2" fmla="val 84490"/>
            </a:avLst>
          </a:prstGeom>
          <a:solidFill>
            <a:srgbClr val="fff5cc"/>
          </a:solidFill>
          <a:ln w="25560">
            <a:solidFill>
              <a:srgbClr val="0326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are statements of </a:t>
            </a:r>
            <a:r>
              <a:rPr b="0" lang="en-GB" sz="1800" spc="-1" strike="noStrike" u="sng">
                <a:solidFill>
                  <a:srgbClr val="0d0d0d"/>
                </a:solidFill>
                <a:uFillTx/>
                <a:latin typeface="Arial"/>
              </a:rPr>
              <a:t>what a student will know or be able to do</a:t>
            </a: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,  if she or he has learned everything in the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C37F-50D6-4693-9A20-C29C410185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2bf"/>
                </a:solidFill>
                <a:latin typeface="Times New Roman"/>
              </a:rPr>
              <a:t>Verbs to use for Objectives: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755640" y="1311120"/>
            <a:ext cx="8089920" cy="5145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359-74FE-43EA-B271-5DC32A7B72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haracteristics of Effective Objectives: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676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clear &amp;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ocus on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mastery can be demonst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meas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ligned with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0C57-2732-4FC9-8EDE-2D2452C1E5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162920" y="1066680"/>
            <a:ext cx="1218960" cy="1297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1219320" y="449568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bjectives answer two of the four key questions of pla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What</a:t>
            </a:r>
            <a:r>
              <a:rPr b="0" lang="en-US" sz="1800" spc="-1" strike="noStrike">
                <a:solidFill>
                  <a:srgbClr val="1782bf"/>
                </a:solidFill>
                <a:latin typeface="Century Gothic"/>
              </a:rPr>
              <a:t> will students lear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8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To what degree</a:t>
            </a:r>
            <a:r>
              <a:rPr b="0" lang="en-US" sz="1800" spc="-1" strike="noStrike">
                <a:solidFill>
                  <a:srgbClr val="1782bf"/>
                </a:solidFill>
                <a:latin typeface="Century Gothic"/>
              </a:rPr>
              <a:t> will they learn? To what depth and bread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will they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cquir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this lear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will they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emonstrat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this lear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82bf"/>
                </a:solidFill>
                <a:latin typeface="Times New Roman"/>
              </a:rPr>
              <a:t>Writing Aims &amp; Objectives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5238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Instructional Objectives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 statements of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e students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will know and be able to do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t the end of a lesson/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Ai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- the goal/objective of the lesson,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written for studen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in the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form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f a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Objectives, then think of activities (task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Otherwise, we focus on the activity and may not really know if it is really valuable as a learning objecti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14c0f"/>
                </a:solidFill>
                <a:latin typeface="Arial"/>
              </a:rPr>
              <a:t>In this session, try to set out </a:t>
            </a:r>
            <a:r>
              <a:rPr b="1" lang="en-US" sz="2000" spc="-1" strike="noStrike" u="sng">
                <a:solidFill>
                  <a:srgbClr val="b14c0f"/>
                </a:solidFill>
                <a:uFillTx/>
                <a:latin typeface="Arial"/>
              </a:rPr>
              <a:t>All of the Objectives </a:t>
            </a:r>
            <a:r>
              <a:rPr b="0" i="1" lang="en-US" sz="2000" spc="-1" strike="noStrike">
                <a:solidFill>
                  <a:srgbClr val="b14c0f"/>
                </a:solidFill>
                <a:latin typeface="Arial"/>
              </a:rPr>
              <a:t>for a Unit you will be teaching. In subsequent sessions, we will focus on setting </a:t>
            </a:r>
            <a:r>
              <a:rPr b="0" lang="en-US" sz="2000" spc="-1" strike="noStrike">
                <a:solidFill>
                  <a:srgbClr val="b14c0f"/>
                </a:solidFill>
                <a:latin typeface="Arial"/>
              </a:rPr>
              <a:t>tasks, differentiation, and assessment for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E42-5FC8-4002-8E2C-2663014C34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3880" y="1447920"/>
            <a:ext cx="5943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eacher who is attempting to teach without inspiring the pupil with a desire to learn is hammering on a cold i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race 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Thank you for Completing the </a:t>
            </a:r>
            <a:br>
              <a:rPr sz="3600"/>
            </a:b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2</a:t>
            </a:r>
            <a:r>
              <a:rPr b="0" lang="en-US" sz="3600" spc="-1" strike="noStrike" baseline="30000">
                <a:solidFill>
                  <a:srgbClr val="1782b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  Session!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C447-D3B4-488E-AC1F-081FFFCA4F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09480" y="2743200"/>
            <a:ext cx="7696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125a"/>
                </a:solidFill>
                <a:latin typeface="Arial"/>
              </a:rPr>
              <a:t>Until the Next Session, when planning try to make sure your lesson plans answer the four key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will students lear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To what degree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will they learn? To what depth and bread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How will they </a:t>
            </a: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acquire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this lear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How will they </a:t>
            </a: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demonstrate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this learning?            </a:t>
            </a:r>
            <a:r>
              <a:rPr b="0" lang="en-US" sz="2000" spc="-1" strike="noStrike">
                <a:solidFill>
                  <a:srgbClr val="5b125a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12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b125a"/>
                </a:solidFill>
                <a:latin typeface="Arial"/>
              </a:rPr>
              <a:t>Include the following Characteristics for Effective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y are clear &amp;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y focus on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ir mastery can be demonst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y are m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y are aligned with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"/>
              </a:rPr>
              <a:t>GOALS</a:t>
            </a: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this session)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define Big ideas, Essential Questions, Objectives and 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identify resources for components 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summarize NYS Standards and CC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provide TIME for writing objectives for your unit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9EB6-4039-468A-B1DA-2F7695F287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7010280" y="0"/>
            <a:ext cx="137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6"/>
          <p:cNvSpPr/>
          <p:nvPr/>
        </p:nvSpPr>
        <p:spPr>
          <a:xfrm>
            <a:off x="990720" y="4038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rricu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7"/>
          <p:cNvSpPr/>
          <p:nvPr/>
        </p:nvSpPr>
        <p:spPr>
          <a:xfrm>
            <a:off x="2819520" y="3886200"/>
            <a:ext cx="1600200" cy="7650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73779"/>
          </a:solidFill>
          <a:ln w="25560">
            <a:solidFill>
              <a:srgbClr val="0326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t is usually  structured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419720" y="403848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9"/>
          <p:cNvSpPr/>
          <p:nvPr/>
        </p:nvSpPr>
        <p:spPr>
          <a:xfrm>
            <a:off x="5257800" y="3886200"/>
            <a:ext cx="1295280" cy="765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73779"/>
          </a:solidFill>
          <a:ln w="25560">
            <a:solidFill>
              <a:srgbClr val="0326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ubdivided i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6971040" y="380988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828800" y="99072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Curriculum Is at the Hear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 lessons are based on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3736080" y="483408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me(s),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17"/>
          <p:cNvCxnSpPr/>
          <p:nvPr/>
        </p:nvCxnSpPr>
        <p:spPr>
          <a:xfrm>
            <a:off x="4800240" y="4419360"/>
            <a:ext cx="1080" cy="478440"/>
          </a:xfrm>
          <a:prstGeom prst="straightConnector1">
            <a:avLst/>
          </a:prstGeom>
          <a:ln w="9360">
            <a:solidFill>
              <a:srgbClr val="043579"/>
            </a:solidFill>
            <a:miter/>
            <a:tailEnd len="med" type="arrow" w="med"/>
          </a:ln>
        </p:spPr>
      </p:cxnSp>
      <p:sp>
        <p:nvSpPr>
          <p:cNvPr id="125" name="Slide Number Placeholder 10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49CE-A58A-484C-AEAB-2B3E22C11D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LET’S BEGIN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34290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1: Big Ideas and Essentia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2: Planning and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3: Strategies for Effective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4: Developing Assessments Aligned  with Curriculum and C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j0197877"/>
          <p:cNvPicPr/>
          <p:nvPr/>
        </p:nvPicPr>
        <p:blipFill>
          <a:blip r:embed="rId1"/>
          <a:stretch/>
        </p:blipFill>
        <p:spPr>
          <a:xfrm>
            <a:off x="0" y="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6666-4D1D-42D9-A38D-41033D8B1E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WE BEGIN… </a:t>
            </a:r>
            <a:br>
              <a:rPr sz="3600"/>
            </a:b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3580920"/>
            <a:ext cx="777240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couple of minutes to write your personal definition of “Big Idea” and “Essential Questions” as it relates to instruction, learning and assess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9AC-9D88-46BA-8392-9DE3CEDC2C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2bf"/>
                </a:solidFill>
                <a:latin typeface="Times New Roman"/>
              </a:rPr>
              <a:t>What is the purpose of what I intend to teach?</a:t>
            </a:r>
            <a:endParaRPr b="0" lang="en-US" sz="28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g ide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a concept, theme, or issue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gives meaning and connectio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 facts and ski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ndards) is the blue print for learning. Our focus should not be specific to a standard or individual lesson, but toward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G IDE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4361-72C9-4A46-83B4-82AB8A7D7D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7F02-D35C-4E2B-BCC7-27D319D289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09480" y="1523880"/>
            <a:ext cx="8382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800" spc="-1" strike="noStrike" u="sng">
                <a:solidFill>
                  <a:srgbClr val="1782bf"/>
                </a:solidFill>
                <a:uFillTx/>
                <a:latin typeface="Arial"/>
              </a:rPr>
              <a:t>Mental Velcr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organizers to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students to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higher level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a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conn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cur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nswered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“ye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“no,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 found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533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Activity for Big Idea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6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75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ose a partner to work wit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r job is to classify the following statements as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Big Idea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 ready to share your reasoning for your classific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v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E11C-C0B9-4C9E-AD64-D7FB315ACE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782bf"/>
                </a:solidFill>
                <a:latin typeface="Times New Roman"/>
                <a:ea typeface="SimSun"/>
              </a:rPr>
              <a:t>RESOURCES!!!!!</a:t>
            </a:r>
            <a:endParaRPr b="0" lang="en-US" sz="40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59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Why re-invent the wheel?????? Resources on big ideas and essential question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http://www.nj.gov/education/aps/njscp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http://pdesas.org/module/sas/curriculumframework/  </a:t>
            </a:r>
            <a:r>
              <a:rPr b="0" lang="en-US" sz="3600" spc="-1" strike="noStrike" u="sng">
                <a:solidFill>
                  <a:srgbClr val="1782bf"/>
                </a:solidFill>
                <a:uFillTx/>
                <a:latin typeface="Arial"/>
                <a:ea typeface="SimSun"/>
              </a:rPr>
              <a:t>(Mrs. Nunez’s Favor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http://corestandards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C72-69F6-4F3B-855E-2660B12D7A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0:29:13Z</dcterms:created>
  <dc:creator>Charlotte Danielson</dc:creator>
  <dc:description/>
  <dc:language>en-US</dc:language>
  <cp:lastModifiedBy>lr</cp:lastModifiedBy>
  <dcterms:modified xsi:type="dcterms:W3CDTF">2012-01-11T18:36:41Z</dcterms:modified>
  <cp:revision>231</cp:revision>
  <dc:subject/>
  <dc:title>The Framework for Teacher Leadership</dc:title>
</cp:coreProperties>
</file>